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781-2FE7-47AC-8691-763EDD63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BC1-B85A-48B4-8B14-55C50E5B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8F1-98A4-46F3-B375-E907C00C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D01-C626-4D56-92C3-0B5EBAC0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A846-C3C2-48B3-BAA6-048BEEBC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40898-B551-4DEB-8225-BE72C17A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8E6F-8921-4404-9D6C-448EB189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E1BE-8BA6-43A2-9356-5CE38801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3193-48FD-4E34-8413-9E97B3F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14E57-1811-42C3-8124-17CE4B3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0240E-DA1F-4631-8E0D-B3F7B94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6C7-CC13-4A41-B845-2FA0F00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19A0C-62B7-48F0-9BB4-9D27447E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EE7B1-2E4C-43FA-9019-5966503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CDBB3-C03F-477D-9A3B-03A80895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23BF1-5E88-40E0-AB60-42737734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67C2F-1678-4A93-869E-AA47036D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5ED-9427-4303-9BC1-1FEF0A56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1B5-1FAB-4D61-BA11-F4335F2D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C29-B86A-48A0-9F19-FF83CE1E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E4D-F55C-49BE-A1DD-D6B9143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C66-3DAF-4D9F-BF2B-0E851FB4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F37-4F26-432C-8739-2779C3B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25A-0320-4957-B493-38FAABC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757-F700-485E-B016-E24495CE4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FC4E-2838-4F19-BC90-5C3092DA8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is passage in Conrad’s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art of Darkn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the author provides a description of the Company’s chief accountant. In a well-organized essay, discuss the literary techniques and details Conrad uses to characterize the chief accountant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6:10:45Z</dcterms:created>
  <dc:creator>Information Systems</dc:creator>
  <dc:description/>
  <dc:language>en-US</dc:language>
  <cp:lastModifiedBy>Information Systems</cp:lastModifiedBy>
  <dcterms:modified xsi:type="dcterms:W3CDTF">2007-01-19T16:13:01Z</dcterms:modified>
  <cp:revision>1</cp:revision>
  <dc:subject/>
  <dc:title>In this passage in Conrad’s Heart of Darkness, the author provides a description of the Company’s chief accountant. In a well-organized essay, discuss the literary techniques and details Conrad uses to characterize the chief accountant. </dc:title>
</cp:coreProperties>
</file>